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D8E-CF3D-4812-967C-D4CA9BA3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7B0-0031-4E2D-9C6E-2916F083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973-1BE0-4653-987E-3F4EBB14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874-8A8B-4167-A1AA-348E033F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4E56-1485-4298-BB7D-7735DD96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59E-BC66-4485-B30C-2BACE765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4AE-F8CC-4427-89C8-2B1BE671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E8A8-756B-4D1E-A37D-80CA7FC5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6D35-93C9-4CDD-A2C4-6FCDA0BF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BF4C-267C-421F-9C38-A19E25C3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9363-F80E-48CE-A99D-00824A7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9FA-7CF2-4471-90BF-3816AF31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D4F5-EBF6-4941-9A9B-5B2AEA6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51C1-D19F-42A5-A10B-BDA6590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7A0E-5B2F-4453-B011-64750A3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EC5A-BBD7-4267-A634-31CBE973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7207-8EA5-42FF-BFC7-2A9D8CF5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B75-E954-4800-BB25-D57318F0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2460-FB99-4CD9-9288-371CC220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5FC-CDE0-4947-B607-44E31E7E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737-E223-4EA0-B1D9-CD9826F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F07-5A2D-4CEA-9C8F-680A16BD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5C4-1336-4322-8E2A-95DD8069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300-9252-43AE-82D1-5584C3D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5F8E-E79F-4CCB-972D-2B472A0C91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4940-0E3D-491D-8976-EE3B280BB5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ICo Arithmetic and Logic Uni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바탕"/>
              </a:rPr>
              <a:t>The Need for Sp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바탕"/>
              </a:rPr>
              <a:t>(with minimal area and powe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LU Top Level Topology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 primary logic bloc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ift, Add, Compare, And, Or, OutM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ss A Direct to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ift Top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y of mux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ical P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-&gt;Compare-&gt;MU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26708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tric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 wid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775.5 micromet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wer consum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2 milliWat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 nanoseco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der Blo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rror Adder used as the individual full ad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ry-select top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 block sizes of 6-4-3-2-1 for O(N^0.5) delay grow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" y="2259000"/>
            <a:ext cx="4038480" cy="871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57200" y="4089240"/>
            <a:ext cx="4038480" cy="1892520"/>
          </a:xfrm>
          <a:prstGeom prst="rect">
            <a:avLst/>
          </a:prstGeom>
          <a:ln w="0">
            <a:noFill/>
          </a:ln>
        </p:spPr>
      </p:pic>
    </p:spTree>
  </p:cSld>
  <p:transition advTm="6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btraction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The Adder Extended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tilizes the adder to implement two’s complement subt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n= 1 and B inver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these conditions selected by a mux based on the sub op code the add becomes two’s compl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izes Area and power (only one structur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rbitrary Function: Compara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enar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gnified by three most significant bit outp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0:13 groun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bit XOR and 16bit N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rmines if A==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btract Utiliz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wo’s complement output of ADD block compares A and 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wba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a and extra NAND delay on critical pa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572000" y="160020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p:transition advTm="60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X Topolog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962160" cy="373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5410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to 1 MUX Pass Gate Sch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 to 1 MUX built from 2 to 1 MUX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zed the mirror adder according to logical effort, as shown in the textbo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mum sized all the other functions as they are not the worst case pa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ffered all the long (&gt;3) transmission gate paths for more spe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ir of muxes with feedback and buffered Q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9246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3:20:26Z</dcterms:created>
  <dc:creator>ITC Labs and Classrooms</dc:creator>
  <dc:description/>
  <dc:language>en-US</dc:language>
  <cp:lastModifiedBy>Andrew Ashworth</cp:lastModifiedBy>
  <dcterms:modified xsi:type="dcterms:W3CDTF">2008-04-29T14:54:22Z</dcterms:modified>
  <cp:revision>4</cp:revision>
  <dc:subject/>
  <dc:title>PICo Arithmetic and Logic Unit</dc:title>
</cp:coreProperties>
</file>